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E6D-434B-43E0-973D-F6822A77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0F1-0793-4A8F-85DB-8120086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2B2-C622-4306-A69E-38FB8EFC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3D2-42F6-459D-8A79-6E4B69D7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037-DF7A-4E26-B4D2-4503235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56F-0225-4E2B-8678-37A46E6B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36C-3E79-41B5-B911-9CE6516C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3A2-69C3-4449-B233-A72F77FF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A8B-ACF9-4C58-9F25-A814333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27E-19DD-4F44-A13A-21A8A8F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856-E196-4490-814B-0BF23F4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F60-8824-4E5C-8ACC-3C8B68B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317-7712-4E42-80B2-D16B6F057A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1371600"/>
            <a:ext cx="610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abilit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4038480"/>
            <a:ext cx="1571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6201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0" y="3657600"/>
            <a:ext cx="157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1680" y="3602160"/>
            <a:ext cx="1571760" cy="51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3596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50160" y="22305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0240" y="2611440"/>
            <a:ext cx="762012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30240" y="3678120"/>
            <a:ext cx="7620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57150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9400" y="28195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330720"/>
            <a:ext cx="746748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9880" y="32004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20040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9400" y="25909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46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467480" cy="93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3657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114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191120"/>
            <a:ext cx="990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93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2514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971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048120"/>
            <a:ext cx="990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39152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5627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0:38Z</dcterms:modified>
  <cp:revision>212</cp:revision>
  <dc:subject/>
  <dc:title>Slide 1</dc:title>
</cp:coreProperties>
</file>